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190-9F4A-4104-8FFB-9F729837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56B-C8AC-4415-B6A8-90573E40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29D-92A1-4D3F-8485-1654AE52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673-241D-4877-AE0F-22F5E25C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809D-36C9-4AAC-AE1A-F4D1C23B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B5CA-408C-477B-B053-914B142E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3E2D-C3CD-495D-B7F1-F7FE09F4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4A2E-9AFD-4559-A00A-98AB9E92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D00E-C4A9-4DED-BECE-A97E878F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4769-A2F2-4083-8EBF-81A669A2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7370-99CC-40A9-A05F-E9E6CA6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CF2-AB65-42F6-B5C0-B2A1D430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C3C9-F6BA-4BDE-9CC7-88B8CC3D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A44B-CAA0-4999-B406-1BB709D1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B78F-F409-4BEE-82B6-A231288D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1DDD-779C-4FBC-815A-212DECB6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C273-CD4A-4F36-95F5-11181688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DA4-6219-4EC5-8EFE-277D30E9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855-431E-432F-9FFA-0524A31A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5FE-47FB-419D-9903-9B3DDFD4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09F-D639-449C-8C39-0134EB2F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05B-710F-45AE-A243-505CFE4E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456-96FF-4604-8284-CF9E525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9E9-AE48-49F1-BE2C-68EE9565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722B-65B2-42DB-A763-9213345592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EB55-4ED2-471F-96D7-585D4FD436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58804"/>
                </a:solidFill>
                <a:latin typeface="Times New Roman"/>
              </a:rPr>
              <a:t>Денежная реформа 1922 – 1924 год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71600" y="1600200"/>
            <a:ext cx="50720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Направлена на укрепление рубля. Проведена наркомом финансов Г.Я. Сокольник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Выпустили новые денежные знаки основанные на золотом черв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000760" y="4500720"/>
            <a:ext cx="3429000" cy="1741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2"/>
          <a:srcRect l="0" t="51271" r="0" b="0"/>
          <a:stretch/>
        </p:blipFill>
        <p:spPr>
          <a:xfrm>
            <a:off x="1258920" y="1628640"/>
            <a:ext cx="280836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rcRect l="0" t="3854" r="0" b="0"/>
          <a:stretch/>
        </p:blipFill>
        <p:spPr>
          <a:xfrm>
            <a:off x="1187280" y="3716280"/>
            <a:ext cx="2735280" cy="2473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2:40Z</dcterms:modified>
  <cp:revision>36</cp:revision>
  <dc:subject/>
  <dc:title>Денежные реформы России</dc:title>
</cp:coreProperties>
</file>